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436-994A-441C-B0B3-515A1F7F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F11-F604-459F-8BA7-F7A2166F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50A-8B02-452E-90D9-DD1FB80B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5B6-80EC-40B8-B95A-55B16515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ABB-9733-47E7-91C4-CDA088E3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C80-8248-40CE-9EDA-A306AAAE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18B-D842-45E4-A6C3-43E183AE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064-B27A-4F7D-862A-5B9AACA8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21D-9818-4D07-BBF4-BD47D9D4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473-4B15-48EE-9F86-4286E87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AA2-EB80-4854-A098-18814EB6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FBE-1666-40DB-BC80-ACD034E3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7148-564F-4B89-BFBA-94EB5489A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srossel.com/fotos/fotografie/rusland/rus_d3412_std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fah.com/images/caucaus_mountains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google.com/imgres?imgurl=http://photos.travelblog.org/Photos/4725/304651/f/2668025-Caucasus-mountains-0.jpg&amp;imgrefurl=http://www.travelblog.org/Photos/2668025&amp;usg=__unBmYzuyaYsQMHQ81FmtkwdZQeg=&amp;h=450&amp;w=600&amp;sz=44&amp;hl=en&amp;start=4&amp;zoom=1&amp;um=1&amp;itbs=1&amp;tbnid=ZLIiILDANwXAVM:&amp;tbnh=101&amp;tbnw=135&amp;prev=/images%3Fq%3Dcaucasus%2Bmountains%26um%3D1%26hl%3Den%26tbs%3Disch: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cff99"/>
                </a:solidFill>
                <a:uFillTx/>
                <a:latin typeface="Arial"/>
              </a:rPr>
              <a:t>Russia’s Awesome 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By: Leanne Gough and Vincent Le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ountain 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Russia is huge! Its land is so big, it runs on two continents! Russia runs on both Asia and Europ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The Ural mountains divide these. Western Russia contains two mountain ranges. The Ural Mountain Range and the Caucasus Mountain R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Britannic Bold"/>
              </a:rPr>
              <a:t>Ural and Caucasus Mou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U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Not very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eparate Russia and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Cauca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eparate Southwest Asia and Southwestern Russia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aller than the Ural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vered in different types of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ral And Caucasus Mount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0666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3200400"/>
            <a:ext cx="2819520" cy="210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429000" y="1219320"/>
            <a:ext cx="1995480" cy="2652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990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4191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199040"/>
            <a:ext cx="0" cy="265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uhaus 93"/>
              </a:rPr>
              <a:t>Inland Water Bo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ussia, there are rivers, the largest sea in the world and some ca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oadway"/>
              </a:rPr>
              <a:t>Rivers and Hugeness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many rivers in the West Siberian Plain that run over frozen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aspian Sea is the largest inland body of water in the water in the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ssia shares the Caspian Sea with four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8:42:39Z</dcterms:created>
  <dc:creator>Student</dc:creator>
  <dc:description/>
  <dc:language>en-US</dc:language>
  <cp:lastModifiedBy>Student</cp:lastModifiedBy>
  <dcterms:modified xsi:type="dcterms:W3CDTF">2010-12-15T19:20:10Z</dcterms:modified>
  <cp:revision>7</cp:revision>
  <dc:subject/>
  <dc:title>Russia’s Awesome Land</dc:title>
</cp:coreProperties>
</file>